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F86-5D3E-4792-BDDC-94E63498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F9D-E14D-4081-B08C-29C1DF30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A44-8BBC-42BC-8FCE-B6EF5279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269-21C2-4577-8522-B092F12C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594-4C48-478D-BC9C-B45DF3E5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5A7-5D92-4CF1-B3C7-B96ACF90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E15-D943-4C42-98E9-AEE99639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FDC-A95C-44FF-8E56-49A0C4B0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28D-FDBF-4C29-8186-A9030572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E9E-FBB9-489B-AE57-F5BB9E6F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584-E079-4906-BA09-08D1C3FD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229-CA17-41B4-AAD7-73F3B0D0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954F-1A4F-48B4-9CCB-FAF7001C98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муниципального образования г.  Краснодар «Детский сад № 35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лицы города Краснодара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ванные в честь герое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ликой Отечественной вой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924360" y="3860640"/>
            <a:ext cx="476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оспитатель старшей групп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БДОУ МО г. Краснодар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«Детский сад № 35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омано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ктория Владими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4138920" y="5877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Блог на WordPress"/>
          <p:cNvPicPr/>
          <p:nvPr/>
        </p:nvPicPr>
        <p:blipFill>
          <a:blip r:embed="rId1"/>
          <a:stretch/>
        </p:blipFill>
        <p:spPr>
          <a:xfrm>
            <a:off x="390600" y="3718080"/>
            <a:ext cx="339552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7.jpg"/>
          <p:cNvPicPr/>
          <p:nvPr/>
        </p:nvPicPr>
        <p:blipFill>
          <a:blip r:embed="rId1"/>
          <a:stretch/>
        </p:blipFill>
        <p:spPr>
          <a:xfrm>
            <a:off x="963720" y="1474920"/>
            <a:ext cx="2968560" cy="1896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9.jpg"/>
          <p:cNvPicPr/>
          <p:nvPr/>
        </p:nvPicPr>
        <p:blipFill>
          <a:blip r:embed="rId2"/>
          <a:stretch/>
        </p:blipFill>
        <p:spPr>
          <a:xfrm>
            <a:off x="1036800" y="3998880"/>
            <a:ext cx="2962080" cy="1859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21.jpg"/>
          <p:cNvPicPr/>
          <p:nvPr/>
        </p:nvPicPr>
        <p:blipFill>
          <a:blip r:embed="rId3"/>
          <a:stretch/>
        </p:blipFill>
        <p:spPr>
          <a:xfrm>
            <a:off x="4889520" y="1474920"/>
            <a:ext cx="2998800" cy="1890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19.jpg"/>
          <p:cNvPicPr/>
          <p:nvPr/>
        </p:nvPicPr>
        <p:blipFill>
          <a:blip r:embed="rId4"/>
          <a:stretch/>
        </p:blipFill>
        <p:spPr>
          <a:xfrm>
            <a:off x="5048280" y="3998880"/>
            <a:ext cx="28400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гена игнатов.jpg"/>
          <p:cNvPicPr/>
          <p:nvPr/>
        </p:nvPicPr>
        <p:blipFill>
          <a:blip r:embed="rId1"/>
          <a:stretch/>
        </p:blipFill>
        <p:spPr>
          <a:xfrm>
            <a:off x="5681520" y="1432080"/>
            <a:ext cx="2322720" cy="3298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евгений игнатов.jpg"/>
          <p:cNvPicPr/>
          <p:nvPr/>
        </p:nvPicPr>
        <p:blipFill>
          <a:blip r:embed="rId2"/>
          <a:stretch/>
        </p:blipFill>
        <p:spPr>
          <a:xfrm>
            <a:off x="1298520" y="1231920"/>
            <a:ext cx="2730600" cy="3645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767240" y="51577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натов Евг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937480" y="5157720"/>
            <a:ext cx="19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натов Геннад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могила игнатовых.jpg"/>
          <p:cNvPicPr/>
          <p:nvPr/>
        </p:nvPicPr>
        <p:blipFill>
          <a:blip r:embed="rId1"/>
          <a:stretch/>
        </p:blipFill>
        <p:spPr>
          <a:xfrm>
            <a:off x="1332000" y="2405160"/>
            <a:ext cx="2808360" cy="218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Рисунок 2" descr="улица игнатовых.jpg"/>
          <p:cNvPicPr/>
          <p:nvPr/>
        </p:nvPicPr>
        <p:blipFill>
          <a:blip r:embed="rId2"/>
          <a:stretch/>
        </p:blipFill>
        <p:spPr>
          <a:xfrm>
            <a:off x="5580000" y="4451400"/>
            <a:ext cx="2592360" cy="17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8" name="Рисунок 3" descr="библиотека.jpg"/>
          <p:cNvPicPr/>
          <p:nvPr/>
        </p:nvPicPr>
        <p:blipFill>
          <a:blip r:embed="rId3"/>
          <a:stretch/>
        </p:blipFill>
        <p:spPr>
          <a:xfrm>
            <a:off x="5508720" y="1733400"/>
            <a:ext cx="2808360" cy="17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TextBox 4"/>
          <p:cNvSpPr/>
          <p:nvPr/>
        </p:nvSpPr>
        <p:spPr>
          <a:xfrm>
            <a:off x="1049400" y="1557360"/>
            <a:ext cx="30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мориал братьев Игнатов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496120" y="765000"/>
            <a:ext cx="26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иблиоте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ени братьев Игнатов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291280" y="3716280"/>
            <a:ext cx="30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ица им. Братьев Игнатов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. Краснода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бершанская2.jpg"/>
          <p:cNvPicPr/>
          <p:nvPr/>
        </p:nvPicPr>
        <p:blipFill>
          <a:blip r:embed="rId1"/>
          <a:stretch/>
        </p:blipFill>
        <p:spPr>
          <a:xfrm>
            <a:off x="865080" y="1474920"/>
            <a:ext cx="2914920" cy="35607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боевой самолет бершанской.jpg"/>
          <p:cNvPicPr/>
          <p:nvPr/>
        </p:nvPicPr>
        <p:blipFill>
          <a:blip r:embed="rId2"/>
          <a:stretch/>
        </p:blipFill>
        <p:spPr>
          <a:xfrm>
            <a:off x="5157720" y="3933720"/>
            <a:ext cx="3025800" cy="1943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4" name="Рисунок 5" descr="полет бершанской.jpg"/>
          <p:cNvPicPr/>
          <p:nvPr/>
        </p:nvPicPr>
        <p:blipFill>
          <a:blip r:embed="rId3"/>
          <a:stretch/>
        </p:blipFill>
        <p:spPr>
          <a:xfrm>
            <a:off x="4991040" y="1222200"/>
            <a:ext cx="3256200" cy="1990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5" name="TextBox 4"/>
          <p:cNvSpPr/>
          <p:nvPr/>
        </p:nvSpPr>
        <p:spPr>
          <a:xfrm>
            <a:off x="622440" y="5013360"/>
            <a:ext cx="32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ршанская Евдокия Давыд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700200" y="1052640"/>
            <a:ext cx="27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мятник Бершанской Е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151600" y="981000"/>
            <a:ext cx="276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ица им. Бершанской Е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. Краснода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http://23region.moneylaw.ru/wp-content/uploads/sites/30/2014/03/80343-200x150.jpg"/>
          <p:cNvPicPr/>
          <p:nvPr/>
        </p:nvPicPr>
        <p:blipFill>
          <a:blip r:embed="rId1"/>
          <a:stretch/>
        </p:blipFill>
        <p:spPr>
          <a:xfrm>
            <a:off x="3924360" y="1844640"/>
            <a:ext cx="2351160" cy="1901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9" name="Picture 9" descr="Краснодар - Трамвайные линии - TransPhoto"/>
          <p:cNvPicPr/>
          <p:nvPr/>
        </p:nvPicPr>
        <p:blipFill>
          <a:blip r:embed="rId2"/>
          <a:stretch/>
        </p:blipFill>
        <p:spPr>
          <a:xfrm>
            <a:off x="6443640" y="1844640"/>
            <a:ext cx="2521080" cy="1797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0" name="Picture 15" descr="Фотографии, добавленные 4 декабря 2012 г. - СТТС"/>
          <p:cNvPicPr/>
          <p:nvPr/>
        </p:nvPicPr>
        <p:blipFill>
          <a:blip r:embed="rId3"/>
          <a:stretch/>
        </p:blipFill>
        <p:spPr>
          <a:xfrm>
            <a:off x="5219640" y="4365720"/>
            <a:ext cx="2751120" cy="1849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Picture 17" descr="Основной фотоальбом - Памятник Евдокии Бершанской, Пашковский - цены 2015, бронирование"/>
          <p:cNvPicPr/>
          <p:nvPr/>
        </p:nvPicPr>
        <p:blipFill>
          <a:blip r:embed="rId4"/>
          <a:stretch/>
        </p:blipFill>
        <p:spPr>
          <a:xfrm>
            <a:off x="539640" y="4365720"/>
            <a:ext cx="2718000" cy="194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2" name="Picture 19" descr="Памятник Бершанской - Рецензия (1 из 1) - Достопримечательно…"/>
          <p:cNvPicPr/>
          <p:nvPr/>
        </p:nvPicPr>
        <p:blipFill>
          <a:blip r:embed="rId5"/>
          <a:stretch/>
        </p:blipFill>
        <p:spPr>
          <a:xfrm>
            <a:off x="611280" y="1844640"/>
            <a:ext cx="2476440" cy="1905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pokrysh"/>
          <p:cNvPicPr/>
          <p:nvPr/>
        </p:nvPicPr>
        <p:blipFill>
          <a:blip r:embed="rId1"/>
          <a:stretch/>
        </p:blipFill>
        <p:spPr>
          <a:xfrm>
            <a:off x="1219320" y="1530360"/>
            <a:ext cx="2603520" cy="35114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улица покрышкина.jpg"/>
          <p:cNvPicPr/>
          <p:nvPr/>
        </p:nvPicPr>
        <p:blipFill>
          <a:blip r:embed="rId2"/>
          <a:stretch/>
        </p:blipFill>
        <p:spPr>
          <a:xfrm>
            <a:off x="6516720" y="4292640"/>
            <a:ext cx="223200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TextBox 4"/>
          <p:cNvSpPr/>
          <p:nvPr/>
        </p:nvSpPr>
        <p:spPr>
          <a:xfrm>
            <a:off x="700920" y="5013360"/>
            <a:ext cx="33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рышкин Александр Иванови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022720" y="62064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мятник Покрышкину А.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235120" y="3429000"/>
            <a:ext cx="286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ица им. Покрышкина А.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. Краснода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http://findmapplaces.com/mphoto/1102/pamyatnik-trizhdi-geroyu-sovetskogo-soyuza-aipokrishkinu_11027078.jpg"/>
          <p:cNvPicPr/>
          <p:nvPr/>
        </p:nvPicPr>
        <p:blipFill>
          <a:blip r:embed="rId3"/>
          <a:stretch/>
        </p:blipFill>
        <p:spPr>
          <a:xfrm>
            <a:off x="4788000" y="1125360"/>
            <a:ext cx="1425600" cy="190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11" descr="http://cs416918.vk.me/v416918476/18b4/WcUouMlDcLo.jpg"/>
          <p:cNvPicPr/>
          <p:nvPr/>
        </p:nvPicPr>
        <p:blipFill>
          <a:blip r:embed="rId4"/>
          <a:stretch/>
        </p:blipFill>
        <p:spPr>
          <a:xfrm>
            <a:off x="6659640" y="1413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http://img.rosrealt.ru/pics/flat/2013/Jun/250_130627_1372315235_0.jpg"/>
          <p:cNvPicPr/>
          <p:nvPr/>
        </p:nvPicPr>
        <p:blipFill>
          <a:blip r:embed="rId5"/>
          <a:stretch/>
        </p:blipFill>
        <p:spPr>
          <a:xfrm>
            <a:off x="4284720" y="4292640"/>
            <a:ext cx="201600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победа.jpg"/>
          <p:cNvPicPr/>
          <p:nvPr/>
        </p:nvPicPr>
        <p:blipFill>
          <a:blip r:embed="rId1"/>
          <a:stretch/>
        </p:blipFill>
        <p:spPr>
          <a:xfrm>
            <a:off x="6280200" y="4325760"/>
            <a:ext cx="2536920" cy="1719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2" name="Рисунок 6" descr="победа1945.jpg"/>
          <p:cNvPicPr/>
          <p:nvPr/>
        </p:nvPicPr>
        <p:blipFill>
          <a:blip r:embed="rId2"/>
          <a:stretch/>
        </p:blipFill>
        <p:spPr>
          <a:xfrm>
            <a:off x="684360" y="1630440"/>
            <a:ext cx="2232000" cy="1836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" name="Рисунок 4" descr="парад москва.jpg"/>
          <p:cNvPicPr/>
          <p:nvPr/>
        </p:nvPicPr>
        <p:blipFill>
          <a:blip r:embed="rId3"/>
          <a:stretch/>
        </p:blipFill>
        <p:spPr>
          <a:xfrm>
            <a:off x="6132600" y="1724040"/>
            <a:ext cx="2616120" cy="1654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4" name="Рисунок 7" descr="парадпобеды краснодар.jpg"/>
          <p:cNvPicPr/>
          <p:nvPr/>
        </p:nvPicPr>
        <p:blipFill>
          <a:blip r:embed="rId4"/>
          <a:stretch/>
        </p:blipFill>
        <p:spPr>
          <a:xfrm>
            <a:off x="592200" y="4352760"/>
            <a:ext cx="2539800" cy="17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5" name="TextBox 5"/>
          <p:cNvSpPr/>
          <p:nvPr/>
        </p:nvSpPr>
        <p:spPr>
          <a:xfrm>
            <a:off x="1998720" y="7650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рады победы в Великой Отечественной вой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Рисунок 8" descr="салют2.jpg"/>
          <p:cNvPicPr/>
          <p:nvPr/>
        </p:nvPicPr>
        <p:blipFill>
          <a:blip r:embed="rId5"/>
          <a:stretch/>
        </p:blipFill>
        <p:spPr>
          <a:xfrm>
            <a:off x="3328920" y="2798640"/>
            <a:ext cx="2540160" cy="1949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7" name="TextBox 9"/>
          <p:cNvSpPr/>
          <p:nvPr/>
        </p:nvSpPr>
        <p:spPr>
          <a:xfrm>
            <a:off x="1029960" y="119700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 Москва, 1945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7014240" y="134136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 Моск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1181880" y="393372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 Краснода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6657840" y="393372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лют 1945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627720" y="2421000"/>
            <a:ext cx="202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лют, г. Краснода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1:24:37Z</dcterms:created>
  <dc:creator>Елена</dc:creator>
  <dc:description/>
  <dc:language>en-US</dc:language>
  <cp:lastModifiedBy>RePack by SPecialiST</cp:lastModifiedBy>
  <dcterms:modified xsi:type="dcterms:W3CDTF">2015-03-27T11:03:44Z</dcterms:modified>
  <cp:revision>39</cp:revision>
  <dc:subject/>
  <dc:title>Слайд 1</dc:title>
</cp:coreProperties>
</file>